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6E1-7DA4-4546-9BAB-C9B91137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52E-D4B0-4251-8E74-4F1E501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B22-F2E1-448A-BAD8-4BB64AED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DF5-8FC7-423E-B28E-BEBE0890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868-4C0D-4379-AF86-41B5188C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118-3B23-4612-AB04-ECF80502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049-4E49-48BA-843A-2464BA58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490E-6E0B-4E0B-BF5C-B92EF8D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4E49-8854-4401-B1A7-608798DC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4A7-6832-4DDA-A967-A853303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C04-C770-4001-B803-8915CD7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E3F-C5B1-4ABB-9189-F3CB545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6B32-8483-43C9-A56E-96B872C4D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be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mes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8. egg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9. will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0. gras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1. across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ad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h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we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sk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wil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off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ound the Pond: Who’s Been Her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5192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pp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ock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abb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0. din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. blueberr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. foll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. bott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304920"/>
            <a:ext cx="4267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mam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ho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wi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acro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. ski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304920"/>
            <a:ext cx="44956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racco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unn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6. terrap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7. she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 </cp:lastModifiedBy>
  <dcterms:modified xsi:type="dcterms:W3CDTF">2008-11-09T22:28:43Z</dcterms:modified>
  <cp:revision>5</cp:revision>
  <dc:subject/>
  <dc:title>The Art Lesson Group A</dc:title>
</cp:coreProperties>
</file>